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723-5A44-470A-B9FD-A363E474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39D-10B9-434A-A7C0-E7BC6465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00D-4993-4F3D-924F-48969540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8F5-D74C-4179-8D18-9D41E7E0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102-A602-4EE3-B967-88191F6E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944-36B2-4667-968C-AD6A39B7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0A5-A8A2-452E-B779-84B17426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674-B582-4912-B718-9DD0A99C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331-F563-4DA7-A2BC-5E6B5822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0D1-0D1F-47E9-945B-AAB82740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8BE-93A4-405F-AB52-D65F7B8B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041-9775-412A-B463-76341C23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5869B-B2F0-432A-9B94-BDD5A3DAAA7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17A3A-DEBC-41AF-96B5-D78CB52C86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Lucida Grande CY"/>
                <a:ea typeface="Lucida Grande CY"/>
              </a:rPr>
              <a:t>Neon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trick Sulliv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endan Hopp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green-neon.jpg"/>
          <p:cNvPicPr/>
          <p:nvPr/>
        </p:nvPicPr>
        <p:blipFill>
          <a:blip r:embed="rId1"/>
          <a:stretch/>
        </p:blipFill>
        <p:spPr>
          <a:xfrm>
            <a:off x="228600" y="22860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neo-neon-collection-lee-broom.jpg"/>
          <p:cNvPicPr/>
          <p:nvPr/>
        </p:nvPicPr>
        <p:blipFill>
          <a:blip r:embed="rId2"/>
          <a:stretch/>
        </p:blipFill>
        <p:spPr>
          <a:xfrm>
            <a:off x="5251320" y="3962520"/>
            <a:ext cx="3206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l Inf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bol-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omic # 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 # 1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iod #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 Name Noble G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dorl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orl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 protons, neutrons, and 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3" descr="neon-girl.jpg"/>
          <p:cNvPicPr/>
          <p:nvPr/>
        </p:nvPicPr>
        <p:blipFill>
          <a:blip r:embed="rId1"/>
          <a:stretch/>
        </p:blipFill>
        <p:spPr>
          <a:xfrm>
            <a:off x="6350040" y="68580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U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cume tub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gh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evision tub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ve meters tub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3X_neon_tvOR.jpg"/>
          <p:cNvPicPr/>
          <p:nvPr/>
        </p:nvPicPr>
        <p:blipFill>
          <a:blip r:embed="rId1"/>
          <a:stretch/>
        </p:blipFill>
        <p:spPr>
          <a:xfrm>
            <a:off x="5105520" y="16002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to buy ne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 neon shoes, tvs. bibles, girls, lights, cars and everything e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s things coo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ks tripp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 it’s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!!!!!!!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blue neon kit.jpg"/>
          <p:cNvPicPr/>
          <p:nvPr/>
        </p:nvPicPr>
        <p:blipFill>
          <a:blip r:embed="rId1"/>
          <a:stretch/>
        </p:blipFill>
        <p:spPr>
          <a:xfrm>
            <a:off x="5079960" y="3352680"/>
            <a:ext cx="3606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3:36:41Z</dcterms:created>
  <dc:creator>CFF</dc:creator>
  <dc:description/>
  <dc:language>en-US</dc:language>
  <cp:lastModifiedBy>CFF</cp:lastModifiedBy>
  <dcterms:modified xsi:type="dcterms:W3CDTF">2009-11-20T13:38:35Z</dcterms:modified>
  <cp:revision>5</cp:revision>
  <dc:subject/>
  <dc:title>Neon</dc:title>
</cp:coreProperties>
</file>